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B6BD-3BBF-4129-B44C-FCE533F8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ED08-5522-400B-A36E-03EF23E8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3976-B551-4703-A53A-6EE43806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9BC4-A42E-4637-B1B8-DE964AB7C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DCE1-FDED-4A72-9AC4-40981006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8FD0-4C79-4E53-AAAB-A241D803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F4C7-1AF2-4B04-92A5-FD84B5CB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12DE-F063-4A0B-A67C-280A5CAE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0D24-C6D5-4115-8D0F-BF971630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BD8A-BF63-4FE4-B558-AC5B0E65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F800-8216-409E-ACB9-81EF0535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88C3-D0A5-4DE4-BEEC-AE2CA152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9B6D-8394-4A46-9925-D46835555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 study  of  wisdom  and  the  right  way  to  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t2.gstatic.com/images?q=tbn:ANd9GcRYdIvfiZm1u_eoHeGrANNMca3XgSyWABE1O-fkKLoUThCGC0Cl"/>
          <p:cNvPicPr/>
          <p:nvPr/>
        </p:nvPicPr>
        <p:blipFill>
          <a:blip r:embed="rId1"/>
          <a:stretch/>
        </p:blipFill>
        <p:spPr>
          <a:xfrm>
            <a:off x="1066680" y="1709640"/>
            <a:ext cx="723924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 are  of  land  nearly  surrounded  by 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t2.gstatic.com/images?q=tbn:ANd9GcQ6ad5RFvuZiFAOJPW-u7R9e6ckeDLX2Z0G6cqPKptf3iHPPJJV"/>
          <p:cNvPicPr/>
          <p:nvPr/>
        </p:nvPicPr>
        <p:blipFill>
          <a:blip r:embed="rId1"/>
          <a:stretch/>
        </p:blipFill>
        <p:spPr>
          <a:xfrm>
            <a:off x="685800" y="1523880"/>
            <a:ext cx="7269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 war  between  Athens  and  Spa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t3.gstatic.com/images?q=tbn:ANd9GcSyB9tTsn5OTZ5_kSDrcOShDZilqsTVE73O40WlxdJyjXI8QVqc"/>
          <p:cNvPicPr/>
          <p:nvPr/>
        </p:nvPicPr>
        <p:blipFill>
          <a:blip r:embed="rId1"/>
          <a:stretch/>
        </p:blipFill>
        <p:spPr>
          <a:xfrm>
            <a:off x="1066680" y="1676520"/>
            <a:ext cx="7040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 kind  of  government  that  is  run  by  a  small 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t1.gstatic.com/images?q=tbn:ANd9GcQuge9QJOIcdFGGK7v573b1GXRJKeTqI9d_83yOlDUWx3YYERC3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 sheltered  placed  along  a  coast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t1.gstatic.com/images?q=tbn:ANd9GcRhSbQOyLwCVOsVMEWhsvGr_8Q_ILzpI4IpcQzalLHkKuye1gnc"/>
          <p:cNvPicPr/>
          <p:nvPr/>
        </p:nvPicPr>
        <p:blipFill>
          <a:blip r:embed="rId1"/>
          <a:stretch/>
        </p:blipFill>
        <p:spPr>
          <a:xfrm>
            <a:off x="0" y="1600200"/>
            <a:ext cx="8902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 place  where  Greeks  meet  and  conduct 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t3.gstatic.com/images?q=tbn:ANd9GcSFGyzwts7g4M4s28Mtm6Ekd6dVjJfHCAwib6FrljcsjwqPomBc"/>
          <p:cNvPicPr/>
          <p:nvPr/>
        </p:nvPicPr>
        <p:blipFill>
          <a:blip r:embed="rId1"/>
          <a:stretch/>
        </p:blipFill>
        <p:spPr>
          <a:xfrm>
            <a:off x="762120" y="1533600"/>
            <a:ext cx="76197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 lawmaking  place  where  people  voted  on  issues  that  helped  their 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t0.gstatic.com/images?q=tbn:ANd9GcQJVoMyZwlPz3CeBjs6QmVI63YseK9952NAkPT26jqV9nml_KQ7ag"/>
          <p:cNvPicPr/>
          <p:nvPr/>
        </p:nvPicPr>
        <p:blipFill>
          <a:blip r:embed="rId1"/>
          <a:stretch/>
        </p:blipFill>
        <p:spPr>
          <a:xfrm>
            <a:off x="1523880" y="1905120"/>
            <a:ext cx="6553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 person  who  has  certain  rights  and  responsibilities  to  his  or  her  cou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t0.gstatic.com/images?q=tbn:ANd9GcS6AnDV81Xa38OC6l3B1t2tpGd95qGZX0tJRiExMvj8gHue_KSZLQ"/>
          <p:cNvPicPr/>
          <p:nvPr/>
        </p:nvPicPr>
        <p:blipFill>
          <a:blip r:embed="rId1"/>
          <a:stretch/>
        </p:blipFill>
        <p:spPr>
          <a:xfrm>
            <a:off x="1295280" y="1752480"/>
            <a:ext cx="7391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 form  of  government  where  people  vote  to  make  decisions.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t1.gstatic.com/images?q=tbn:ANd9GcSIR2RDEegh1MD26xlwGbzuX-7q_A8V852dgeBF3iAUF1NZV-eXMw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 hear  evidence  and  make  decisions  in  court  of 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t0.gstatic.com/images?q=tbn:ANd9GcQMvHIO7DEDB0uZkyfaksVrDN5dojjoo2vgggDfpVWMuX3iDOuRG2J6E8m9"/>
          <p:cNvPicPr/>
          <p:nvPr/>
        </p:nvPicPr>
        <p:blipFill>
          <a:blip r:embed="rId1"/>
          <a:stretch/>
        </p:blipFill>
        <p:spPr>
          <a:xfrm>
            <a:off x="228600" y="1828800"/>
            <a:ext cx="8915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 headed  by  one  ru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t0.gstatic.com/images?q=tbn:ANd9GcTIWCBd0Y5xeSrOvo6nMlssvaTELu2lYBqa2nYCFE63nflKMpbfNg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 Greek  city-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63360" y="-441360"/>
            <a:ext cx="116208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http://t1.gstatic.com/images?q=tbn:ANd9GcSu6nwMgxcie2j7iSf7pZmvs1O3d9_ZisTnN5KTFp_DOW4KcDFBmA"/>
          <p:cNvPicPr/>
          <p:nvPr/>
        </p:nvPicPr>
        <p:blipFill>
          <a:blip r:embed="rId1"/>
          <a:stretch/>
        </p:blipFill>
        <p:spPr>
          <a:xfrm>
            <a:off x="0" y="1905120"/>
            <a:ext cx="8610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1T21:47:34Z</dcterms:modified>
  <cp:revision>94</cp:revision>
  <dc:subject/>
  <dc:title>Ancient Greece</dc:title>
</cp:coreProperties>
</file>